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Авторские системы мультимеди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00536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866A-6548-4B65-AA49-1018070F300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гласно классификации можно выделить восемь типов авторских систем, использующих следующие метаф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зы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ценарие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Scripting Langu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образительное управление потоком данных (Icon/Flow Contro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др (Fr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рточку с языком сценариев (Card/Scriptin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ременную шкалу (Timelin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ерархические объекты (Hierarchical Objec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пермедиа-ссылки (Hypermedia Linkag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ры (Tagg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A07C-6D2D-4D5F-A382-0DC7DA3BD01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которые из наиболее распространенных авторских сист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ormula Graphic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formulagraphics.com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GLpro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gmedia.com/glpro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HyperMethod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hypermethod.com/rus/index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uthorware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(www.macromedia.com/software/authorware/productinfo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Boo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asymetrix.com/products/instructor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conAuth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asymetrix.com/pr/new_iconauthor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media Build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(www.mediachance.com/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Compil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www.rey.ee/webcompiler/rus/index.htm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per Maker HTM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 (http://bersoft.com/hmhtml/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7A42-E931-4BE1-B205-52A2D435080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1:32:24Z</dcterms:modified>
  <cp:revision>100</cp:revision>
  <dc:subject/>
  <dc:title>Lecture Template </dc:title>
</cp:coreProperties>
</file>